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20840" y="3313080"/>
            <a:ext cx="9072360" cy="122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8200"/>
            <a:ext cx="8607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68760" y="7174080"/>
            <a:ext cx="319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ptemb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43880" y="7149960"/>
            <a:ext cx="2100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fld id="{14AEC25A-DFF2-4D38-993B-47E3A78BA3B9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4280" y="121752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692928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9400" y="1539720"/>
            <a:ext cx="6721560" cy="44802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00" y="14400"/>
            <a:ext cx="403200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15640" y="4427640"/>
            <a:ext cx="86058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ccelerated Xen network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arly performan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33520"/>
          <a:ext cx="10080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10080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PU Usa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3280" y="1428840"/>
          <a:ext cx="8982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28840"/>
                    <a:ext cx="8982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4720" y="1427040"/>
            <a:ext cx="898704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ubmission of patch to xen-d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 small changes contributed alrea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Convenient to fold bend and fend into mainlin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e features to have in next-gen hardwa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C filtering (on receive and transmi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SIX (interrupt line per gues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Local dest tx DMA-ed directly to local gue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426680"/>
            <a:ext cx="964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olarflare does user-level network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CP/IP stack linked with user ap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SolarStor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8440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mart NIC allows safe access from user-mo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board IOMMU for safe DM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ic’s filter-table demuxes incoming packets to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Queues get mapped into user-mode proces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liminates interrupts/syscalls/context switche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an also do zero-copy tx from user-mo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Virtual Interfaces and Prot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1547280"/>
            <a:ext cx="8923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 has many Virtual Interfaces (VIs)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 = Filter + DMA queue + event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VIs largely about 'protection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llow untrusted entities to access the NIC without compromising system integr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s mapped into untrusted entity’s address spa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Traditionally 'untrusted entity' means user process    ... but it might equally mean a guest VM kern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Xen: I/O via Dom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ll 'real' drivers live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mU kernels have pseudo drivers that communicate with Dom0 via the hypervisor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cessary because only Dom0 is 'trusted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5292720"/>
            <a:ext cx="194472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4428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6120" y="563040"/>
            <a:ext cx="8483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But with SolarStorm..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402920"/>
            <a:ext cx="91962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Accelerated routes set up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Then DomU can access hardware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DomU can access hardware directly + safel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t least most of the time; still slow path via Dom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5292720"/>
            <a:ext cx="172908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1260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3080" y="5292720"/>
            <a:ext cx="0" cy="1008000"/>
          </a:xfrm>
          <a:prstGeom prst="line">
            <a:avLst/>
          </a:prstGeom>
          <a:ln w="442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ront-end and back-en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547280"/>
            <a:ext cx="9575640" cy="52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ont-end driver in DomU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Where possible, interacts with h/w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is is known as “fast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therwise packets routed via Dom0: “slow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Need to be careful about Tx traffic for local mach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ack-end driver lives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ts up VI per guest V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stalls filters “on-demand” as traffic flows in/o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forces quotas on front-end driv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1640" y="1332000"/>
            <a:ext cx="3816360" cy="4032000"/>
          </a:xfrm>
          <a:prstGeom prst="rect">
            <a:avLst/>
          </a:prstGeom>
          <a:solidFill>
            <a:srgbClr val="ff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1332000"/>
            <a:ext cx="2951280" cy="4032000"/>
          </a:xfrm>
          <a:prstGeom prst="rect">
            <a:avLst/>
          </a:prstGeom>
          <a:solidFill>
            <a:srgbClr val="cc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2050920"/>
            <a:ext cx="2448000" cy="2952720"/>
          </a:xfrm>
          <a:custGeom>
            <a:avLst/>
            <a:gdLst/>
            <a:ahLst/>
            <a:rect l="l" t="t" r="r" b="b"/>
            <a:pathLst>
              <a:path w="1542" h="1860">
                <a:moveTo>
                  <a:pt x="0" y="1860"/>
                </a:moveTo>
                <a:lnTo>
                  <a:pt x="0" y="0"/>
                </a:lnTo>
                <a:lnTo>
                  <a:pt x="1542" y="0"/>
                </a:lnTo>
                <a:lnTo>
                  <a:pt x="1542" y="227"/>
                </a:lnTo>
                <a:lnTo>
                  <a:pt x="363" y="227"/>
                </a:lnTo>
                <a:lnTo>
                  <a:pt x="363" y="1860"/>
                </a:lnTo>
                <a:lnTo>
                  <a:pt x="0" y="186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1640" y="1619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" y="2050920"/>
            <a:ext cx="1440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508120"/>
            <a:ext cx="1800000" cy="24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2680" y="20271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w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4282920"/>
            <a:ext cx="1944360" cy="503280"/>
          </a:xfrm>
          <a:prstGeom prst="leftRightArrow">
            <a:avLst>
              <a:gd name="adj1" fmla="val 50000"/>
              <a:gd name="adj2" fmla="val 769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8120" y="43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240984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248292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5280" y="255420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000" y="26258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08000" y="5580000"/>
            <a:ext cx="1295640" cy="720720"/>
            <a:chOff x="1008000" y="5580000"/>
            <a:chExt cx="1295640" cy="720720"/>
          </a:xfrm>
        </p:grpSpPr>
        <p:sp>
          <p:nvSpPr>
            <p:cNvPr id="124" name=""/>
            <p:cNvSpPr/>
            <p:nvPr/>
          </p:nvSpPr>
          <p:spPr>
            <a:xfrm>
              <a:off x="1008000" y="608472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800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558000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164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36720" y="5651640"/>
            <a:ext cx="1295280" cy="720720"/>
            <a:chOff x="936720" y="5651640"/>
            <a:chExt cx="1295280" cy="720720"/>
          </a:xfrm>
        </p:grpSpPr>
        <p:sp>
          <p:nvSpPr>
            <p:cNvPr id="129" name=""/>
            <p:cNvSpPr/>
            <p:nvPr/>
          </p:nvSpPr>
          <p:spPr>
            <a:xfrm>
              <a:off x="936720" y="615636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672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8360" y="5651640"/>
              <a:ext cx="43128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000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92000" y="5724360"/>
            <a:ext cx="1295640" cy="720720"/>
            <a:chOff x="792000" y="5724360"/>
            <a:chExt cx="1295640" cy="720720"/>
          </a:xfrm>
        </p:grpSpPr>
        <p:sp>
          <p:nvSpPr>
            <p:cNvPr id="134" name=""/>
            <p:cNvSpPr/>
            <p:nvPr/>
          </p:nvSpPr>
          <p:spPr>
            <a:xfrm>
              <a:off x="792000" y="622908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00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4000" y="572436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564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5651640"/>
            <a:ext cx="1295280" cy="720720"/>
            <a:chOff x="5184720" y="5651640"/>
            <a:chExt cx="1295280" cy="720720"/>
          </a:xfrm>
        </p:grpSpPr>
        <p:sp>
          <p:nvSpPr>
            <p:cNvPr id="139" name=""/>
            <p:cNvSpPr/>
            <p:nvPr/>
          </p:nvSpPr>
          <p:spPr>
            <a:xfrm>
              <a:off x="5184720" y="6156360"/>
              <a:ext cx="1295280" cy="21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472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6360" y="5651640"/>
              <a:ext cx="43128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800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087640" y="5651280"/>
            <a:ext cx="3097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87640" y="6372360"/>
            <a:ext cx="302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5364000"/>
            <a:ext cx="676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27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7320" y="1279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4880" y="3274920"/>
            <a:ext cx="2078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hared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x/Rx bu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MAC tb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ront-end driv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331640"/>
            <a:ext cx="928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end communicates with bend over FIFO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lemented using shared pag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ront-end driver split into two par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ardware dependent and independent par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/w independent part loads h/w dependent pa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lects based on message from back-e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 Linux, this message is just name of a modu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-fatal error if h/w dependent module not f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1331640"/>
            <a:ext cx="943308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n migration, back-end sends ‘h/w unavailable’ message to front-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verything then goes over slow-pat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ossibly followed by ‘new h/w available’ message at the other 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f no accelerated hardware available, or if no driver for that hardware available: slow path!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Law</cp:lastModifiedBy>
  <dcterms:modified xsi:type="dcterms:W3CDTF">2006-09-19T15:10:23Z</dcterms:modified>
  <cp:revision>15</cp:revision>
  <dc:subject/>
  <dc:title>Slide 1</dc:title>
</cp:coreProperties>
</file>